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E040-8B28-45D0-BCA8-D207A102F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8CA9-18B4-4322-9986-86BFB254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AA10-CB0E-4957-BBE8-110981332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A7CC-310C-495D-B9BC-E21907EC6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EBE7-F729-411B-85F8-6D5A74B3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B544-A646-4E5D-BDA6-A317C86D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00A2-BBA3-4BB9-B42C-19F4F87F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9BEC-AEEA-44EB-8499-5432D309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5194-CBBE-4222-BEC4-DE3A1E22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7E08-4D03-40F2-A836-ECB72859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9451-79D6-467B-B2BA-8F905398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7AA7-6A8D-4A56-A73B-0F855EDE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17EC-C592-4841-8AE3-314E28C20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620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696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3263760"/>
            <a:ext cx="7467840" cy="1994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8080" y="1447920"/>
            <a:ext cx="7467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315200" cy="2451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828800" y="4038480"/>
            <a:ext cx="6477120" cy="1219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990720" y="4041720"/>
            <a:ext cx="106668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62012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38080" y="2895480"/>
            <a:ext cx="7620120" cy="1371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7620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3587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14400" y="4267080"/>
            <a:ext cx="73915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391520" cy="2590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14400" y="3048120"/>
            <a:ext cx="7391520" cy="685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914400" y="3809880"/>
            <a:ext cx="7391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924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543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4T02:22:00Z</dcterms:modified>
  <cp:revision>41</cp:revision>
  <dc:subject/>
  <dc:title>PowerPoint Presentation</dc:title>
</cp:coreProperties>
</file>